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FEB-D92B-40FE-873E-93D3F51F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2D9-A411-48D8-8201-30B741C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89F-410D-49C9-9435-CE9E1374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02F-36C3-4E9D-A82B-F85C1C63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981-FE15-4F28-91D3-E40444A9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1F1-6E22-4760-B264-F41DB92B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754-6FFC-47DC-8033-5A56A55A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6C4-2501-4C57-B1E2-5B0D0D72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1BE-927E-48F6-9D18-FE02AC46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2A7-CCC2-44E0-8B64-C069F8E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89A-6F18-4324-AF66-309C8DAD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F8E-74F7-4D86-8D9A-BC7335BF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F5A4B-6861-4811-9085-A5216AD86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CasellaDiTesto 6"/>
          <p:cNvSpPr/>
          <p:nvPr/>
        </p:nvSpPr>
        <p:spPr>
          <a:xfrm>
            <a:off x="1316880" y="6394320"/>
            <a:ext cx="658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© Gabrielli G., Profili S., Organizzazione e gestione delle risorse umane, II ed., Isedi,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aygroup.com/leadership2030/" TargetMode="External"/><Relationship Id="rId2" Type="http://schemas.openxmlformats.org/officeDocument/2006/relationships/hyperlink" Target="http://www.haygroup.com/leadership2030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1160" y="3529080"/>
            <a:ext cx="7547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uilding the new lea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© Hay Group’s Leadership 2030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aygroup.com/leadership2030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rend globali di cambia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858960" y="1523880"/>
            <a:ext cx="7378560" cy="4781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57200" y="4782960"/>
            <a:ext cx="196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© Hay Group’s Leadership 2030 Re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 l’impatto sulla lead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60240" y="1353960"/>
            <a:ext cx="7810560" cy="4407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237560" y="546876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© Hay Group’s Leadership 2030 Re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leadership compet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943280" y="1227240"/>
            <a:ext cx="5429160" cy="5162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176480" y="638280"/>
            <a:ext cx="71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eader di domani si trovano ad affrontare sfide su tre livelli: cognitivo, emozionale e comportament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77760" y="588636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© Hay Group’s Leadership 2030 Rese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6:33:01Z</dcterms:created>
  <dc:creator>aa aa</dc:creator>
  <dc:description/>
  <dc:language>en-US</dc:language>
  <cp:lastModifiedBy>Anna Altieri</cp:lastModifiedBy>
  <dcterms:modified xsi:type="dcterms:W3CDTF">2016-11-04T09:33:05Z</dcterms:modified>
  <cp:revision>8</cp:revision>
  <dc:subject/>
  <dc:title>PowerPoint Presentation</dc:title>
</cp:coreProperties>
</file>