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FD3D-11B8-46CA-BB94-B5964B9BD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EBF8-FC84-4F0A-BC4F-8380A73A5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9294-B8C1-4747-AA57-BE8925EF6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C30D-4C68-4F79-9A42-83D6BF556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C63C-50D6-4633-B76C-96FEB76E0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346A-330E-4B06-849F-686B6D2F0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8CDC-7BFE-4755-B25C-DDB2B5707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BC2E-8526-4B9B-B0A6-99E68188E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95F7-DB34-45FB-9D7B-D91416760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31A2-44D5-40B5-850A-38DBADA9A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2A7C-83E4-423E-9D68-7398D8500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A8A6-65B8-45E5-A4A7-349476168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893167-B91F-4FD1-97CF-22DE077414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CasellaDiTesto 6"/>
          <p:cNvSpPr/>
          <p:nvPr/>
        </p:nvSpPr>
        <p:spPr>
          <a:xfrm>
            <a:off x="1339920" y="6394320"/>
            <a:ext cx="6580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595959"/>
                </a:solidFill>
                <a:latin typeface="Calibri"/>
              </a:rPr>
              <a:t>© Gabrielli G., Profili S., Organizzazione e gestione delle risorse umane, II ed., Isedi, 201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nel.it/it-IT/carriere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pitolo 9</a:t>
            </a:r>
            <a:br>
              <a:rPr sz="3200"/>
            </a:br>
            <a:br>
              <a:rPr sz="3200"/>
            </a:b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Valorizzare le persone: sviluppo e carrier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898989"/>
                </a:solidFill>
                <a:latin typeface="Calibri"/>
              </a:rPr>
              <a:t>Lo sviluppo e i modelli di leadership. Il caso E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enel.it/it-IT/carriere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l modello di leadership En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44" descr=""/>
          <p:cNvPicPr/>
          <p:nvPr/>
        </p:nvPicPr>
        <p:blipFill>
          <a:blip r:embed="rId1"/>
          <a:stretch/>
        </p:blipFill>
        <p:spPr>
          <a:xfrm>
            <a:off x="341280" y="1757520"/>
            <a:ext cx="8518680" cy="4491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7" descr=""/>
          <p:cNvPicPr/>
          <p:nvPr/>
        </p:nvPicPr>
        <p:blipFill>
          <a:blip r:embed="rId2"/>
          <a:stretch/>
        </p:blipFill>
        <p:spPr>
          <a:xfrm>
            <a:off x="7562880" y="1757520"/>
            <a:ext cx="976320" cy="63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2T17:58:46Z</dcterms:created>
  <dc:creator>aa aa</dc:creator>
  <dc:description/>
  <dc:language>en-US</dc:language>
  <cp:lastModifiedBy>Anna Altieri</cp:lastModifiedBy>
  <dcterms:modified xsi:type="dcterms:W3CDTF">2016-11-04T09:27:46Z</dcterms:modified>
  <cp:revision>3</cp:revision>
  <dc:subject/>
  <dc:title>Capitolo 9  Valorizzare le persone: sviluppo e carriere </dc:title>
</cp:coreProperties>
</file>